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34B6-7541-40D6-942C-6C14ADE4A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7240"/>
            <a:ext cx="4572000" cy="3429000"/>
          </a:xfrm>
          <a:prstGeom prst="rect">
            <a:avLst/>
          </a:prstGeom>
          <a:ln w="0">
            <a:noFill/>
          </a:ln>
        </p:spPr>
      </p:sp>
      <p:sp>
        <p:nvSpPr>
          <p:cNvPr id="118"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Children play amid the ruins of Warsaw, Poland, at the end of World War I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ettmann (Reginald Kenny)/CORBI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7240"/>
            <a:ext cx="4572000" cy="3429000"/>
          </a:xfrm>
          <a:prstGeom prst="rect">
            <a:avLst/>
          </a:prstGeom>
          <a:ln w="0">
            <a:noFill/>
          </a:ln>
        </p:spPr>
      </p:sp>
      <p:sp>
        <p:nvSpPr>
          <p:cNvPr id="134"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Map 28.3: Decolonization in the Middle East.</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Under the control of the Ottoman Empire prior to World War I, much of the Middle East was ruled directly or indirectly by the British and French after the war. Britain, the main colonial power, granted independence to most of its holdings in the first years after World War II, although it did maintain control of small states in the Persian Gulf and Arabian Sea region until 197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Which countries are major oil produce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7240"/>
            <a:ext cx="4572000" cy="3429000"/>
          </a:xfrm>
          <a:prstGeom prst="rect">
            <a:avLst/>
          </a:prstGeom>
          <a:ln w="0">
            <a:noFill/>
          </a:ln>
        </p:spPr>
      </p:sp>
      <p:sp>
        <p:nvSpPr>
          <p:cNvPr id="136"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Map 28.4: Decolonization in Asia.</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Britain and the United States facilitated relatively peaceful transitions to independence for their possessions in Asia. France fought hard to hold Indochina but left after major military defeats. Cold War tensions in Asia led to both the Korean War and the Vietnam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What two neighboring countries’ presence helps explain why Korea has had difficulty maintaining complete independence throughout much of its histor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7240"/>
            <a:ext cx="4572000" cy="3429000"/>
          </a:xfrm>
          <a:prstGeom prst="rect">
            <a:avLst/>
          </a:prstGeom>
          <a:ln w="0">
            <a:noFill/>
          </a:ln>
        </p:spPr>
      </p:sp>
      <p:sp>
        <p:nvSpPr>
          <p:cNvPr id="138"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Khrushchev’s Visit to Yugoslavia.</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The leadership of Nikita Khrushchev appeared for a while to open the door to more flexible Soviet policies. In 1955, he visited Yugoslavia in an attempt to improve relations with a Communist state that had deviated from Soviet policies. Khrushchev is shown here making a conciliatory speech with Marshal Tito, the leader of Yugoslavia, looking 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amp; Life Pictures (Ralph Crane)/Getty Image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7240"/>
            <a:ext cx="4572000" cy="3429000"/>
          </a:xfrm>
          <a:prstGeom prst="rect">
            <a:avLst/>
          </a:prstGeom>
          <a:ln w="0">
            <a:noFill/>
          </a:ln>
        </p:spPr>
      </p:sp>
      <p:sp>
        <p:nvSpPr>
          <p:cNvPr id="140"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Charles de Gaulle.</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As president, Charles de Gaulle sought to revive the greatness of the French nation. He is shown here dressed in his military uniform during a formal state ceremony on a visit to Quebec, Canada, in July 1967.</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ettmann/CORBI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7240"/>
            <a:ext cx="4572000" cy="3429000"/>
          </a:xfrm>
          <a:prstGeom prst="rect">
            <a:avLst/>
          </a:prstGeom>
          <a:ln w="0">
            <a:noFill/>
          </a:ln>
        </p:spPr>
      </p:sp>
      <p:sp>
        <p:nvSpPr>
          <p:cNvPr id="142"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British Welfare State: Free Milk at School.</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The creation of the welfare state was a prominent social development in postwar Europe. The desire to improve the health of children led to welfare programs that provided free food for young people. Pictured here are boys at a grammar school in England during a free milk brea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7240"/>
            <a:ext cx="4572000" cy="3429000"/>
          </a:xfrm>
          <a:prstGeom prst="rect">
            <a:avLst/>
          </a:prstGeom>
          <a:ln w="0">
            <a:noFill/>
          </a:ln>
        </p:spPr>
      </p:sp>
      <p:sp>
        <p:nvSpPr>
          <p:cNvPr id="144"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European Economic Community, 1957</a:t>
            </a: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7240"/>
            <a:ext cx="4572000" cy="3429000"/>
          </a:xfrm>
          <a:prstGeom prst="rect">
            <a:avLst/>
          </a:prstGeom>
          <a:ln w="0">
            <a:noFill/>
          </a:ln>
        </p:spPr>
      </p:sp>
      <p:sp>
        <p:nvSpPr>
          <p:cNvPr id="146"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Civil Rights Movement.</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In the early 1960s, Martin Luther King Jr. and his Southern Christian Leadership Conference organized a variety of activities to pursue the goal of racial equality. He is shown here with his wife Coretta (right) and Rosa Parks and Ralph Abernathy (far left) leading a march against racial discrimination in 196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b Adelman/Magnum Photo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7240"/>
            <a:ext cx="4572000" cy="3429000"/>
          </a:xfrm>
          <a:prstGeom prst="rect">
            <a:avLst/>
          </a:prstGeom>
          <a:ln w="0">
            <a:noFill/>
          </a:ln>
        </p:spPr>
      </p:sp>
      <p:sp>
        <p:nvSpPr>
          <p:cNvPr id="148"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elevision in the Consumer Society.</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Buying on the installment plan made it possible for consumers to purchase a wide variety of new products. Televisions were one of the most popular. By 1956, fully 80 percent of all American families owned a television set. Many families considered a television a necessity, not a luxury. Television advertising also encouraged even more consumption in the new consumer socie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lton Collection/Getty Image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7240"/>
            <a:ext cx="4572000" cy="3429000"/>
          </a:xfrm>
          <a:prstGeom prst="rect">
            <a:avLst/>
          </a:prstGeom>
          <a:ln w="0">
            <a:noFill/>
          </a:ln>
        </p:spPr>
      </p:sp>
      <p:sp>
        <p:nvSpPr>
          <p:cNvPr id="120"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m &amp; History: </a:t>
            </a:r>
            <a:r>
              <a:rPr b="1" i="1" lang="el-GR" sz="1200" spc="-1" strike="noStrike">
                <a:solidFill>
                  <a:srgbClr val="000000"/>
                </a:solidFill>
                <a:latin typeface="Arial"/>
              </a:rPr>
              <a:t>The Third Man </a:t>
            </a:r>
            <a:r>
              <a:rPr b="1" lang="el-GR" sz="1200" spc="-1" strike="noStrike">
                <a:solidFill>
                  <a:srgbClr val="000000"/>
                </a:solidFill>
                <a:latin typeface="Arial"/>
              </a:rPr>
              <a:t>(1949)</a:t>
            </a:r>
            <a:r>
              <a:rPr b="1"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Harry Lime (Orson Welles) tries to avoid captur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7240"/>
            <a:ext cx="4572000" cy="3429000"/>
          </a:xfrm>
          <a:prstGeom prst="rect">
            <a:avLst/>
          </a:prstGeom>
          <a:ln w="0">
            <a:noFill/>
          </a:ln>
        </p:spPr>
      </p:sp>
      <p:sp>
        <p:nvSpPr>
          <p:cNvPr id="150"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Jean Dubuffet, </a:t>
            </a:r>
            <a:r>
              <a:rPr b="1" i="1" lang="el-GR" sz="1200" spc="-1" strike="noStrike">
                <a:solidFill>
                  <a:srgbClr val="000000"/>
                </a:solidFill>
                <a:latin typeface="Arial"/>
                <a:ea typeface="Arial"/>
              </a:rPr>
              <a:t>Portrait of Jean Paulhan.</a:t>
            </a:r>
            <a:r>
              <a:rPr b="0" i="1"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In 1947, Jean Dubuffet exhibited more than seventy portraits of his friends and collaborators at the Galerie Ren</a:t>
            </a:r>
            <a:r>
              <a:rPr b="0" lang="en-US" sz="1200" spc="-1" strike="noStrike">
                <a:solidFill>
                  <a:srgbClr val="000000"/>
                </a:solidFill>
                <a:latin typeface="Arial"/>
                <a:ea typeface="Arial"/>
              </a:rPr>
              <a:t>é</a:t>
            </a:r>
            <a:r>
              <a:rPr b="0" lang="el-GR" sz="1200" spc="-1" strike="noStrike">
                <a:solidFill>
                  <a:srgbClr val="000000"/>
                </a:solidFill>
                <a:latin typeface="Arial"/>
                <a:ea typeface="Arial"/>
              </a:rPr>
              <a:t> Drouin in Paris. The subjects of Dubuffet’s portraits were both Nazi sympathizers and fighters against the German occupation. Jean Paulhan, the subject of this portrait, was a well-known critic and writer. Paulhan, who promoted Dubuffet’s work, had led an underground movement to resist Nazi propaganda during World War I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Artists Rights Society (ARS), New York/ADAGP, Paris. On Loan to the Hamburg Kunsthalle, Hamburg, Germany//The Bridgeman Art Library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7240"/>
            <a:ext cx="4572000" cy="3429000"/>
          </a:xfrm>
          <a:prstGeom prst="rect">
            <a:avLst/>
          </a:prstGeom>
          <a:ln w="0">
            <a:noFill/>
          </a:ln>
        </p:spPr>
      </p:sp>
      <p:sp>
        <p:nvSpPr>
          <p:cNvPr id="152"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Jackson Pollock Painting.</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After World War II, Abstract Expressionism moved to the center of the artistic mainstream. One of its best-known practitioners was the American Jackson Pollock, who achieved his ideal of total abstraction in his drip paintings. He is shown here at work in his Long Island studio. Pollock found it easier to cover his large canvases with spontaneous patterns of color when he put them on the flo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s Namuth/Photo Researchers, Inc.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7240"/>
            <a:ext cx="4572000" cy="3429000"/>
          </a:xfrm>
          <a:prstGeom prst="rect">
            <a:avLst/>
          </a:prstGeom>
          <a:ln w="0">
            <a:noFill/>
          </a:ln>
        </p:spPr>
      </p:sp>
      <p:sp>
        <p:nvSpPr>
          <p:cNvPr id="154"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Beatles.</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Although rock-and</a:t>
            </a:r>
            <a:r>
              <a:rPr b="0" lang="en-US" sz="1200" spc="-1" strike="noStrike">
                <a:solidFill>
                  <a:srgbClr val="000000"/>
                </a:solidFill>
                <a:latin typeface="Arial"/>
                <a:ea typeface="Arial"/>
              </a:rPr>
              <a:t>-</a:t>
            </a:r>
            <a:r>
              <a:rPr b="0" lang="el-GR" sz="1200" spc="-1" strike="noStrike">
                <a:solidFill>
                  <a:srgbClr val="000000"/>
                </a:solidFill>
                <a:latin typeface="Arial"/>
                <a:ea typeface="Arial"/>
              </a:rPr>
              <a:t>roll originated in the United States, it inspired musical groups around the world. This was certainly true of Britain’s Beatles, who caused a sensation among young people when they came to the United States in the 1960s. Here the Beatles are shown during a performance on </a:t>
            </a:r>
            <a:r>
              <a:rPr b="0" i="1" lang="el-GR" sz="1200" spc="-1" strike="noStrike">
                <a:solidFill>
                  <a:srgbClr val="000000"/>
                </a:solidFill>
                <a:latin typeface="Arial"/>
                <a:ea typeface="Arial"/>
              </a:rPr>
              <a:t>The Ed Sullivan Sho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 Imag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7240"/>
            <a:ext cx="4572000" cy="3429000"/>
          </a:xfrm>
          <a:prstGeom prst="rect">
            <a:avLst/>
          </a:prstGeom>
          <a:ln w="0">
            <a:noFill/>
          </a:ln>
        </p:spPr>
      </p:sp>
      <p:sp>
        <p:nvSpPr>
          <p:cNvPr id="122"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Berlin Air Lif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7240"/>
            <a:ext cx="4572000" cy="3429000"/>
          </a:xfrm>
          <a:prstGeom prst="rect">
            <a:avLst/>
          </a:prstGeom>
          <a:ln w="0">
            <a:noFill/>
          </a:ln>
        </p:spPr>
      </p:sp>
      <p:sp>
        <p:nvSpPr>
          <p:cNvPr id="124"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Berlin Air Lift.</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During the Berlin Air Lift, the United States and its Western allies flew 13,000 tons of supplies daily to Berlin and thus were able to break the Soviet land blockade of the city. In this photograph, residents of West Berlin watch an American plane arrive with supplies for the c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ettmann/CORBI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7240"/>
            <a:ext cx="4572000" cy="3429000"/>
          </a:xfrm>
          <a:prstGeom prst="rect">
            <a:avLst/>
          </a:prstGeom>
          <a:ln w="0">
            <a:noFill/>
          </a:ln>
        </p:spPr>
      </p:sp>
      <p:sp>
        <p:nvSpPr>
          <p:cNvPr id="126"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Map 28.1: The New European Alliance Systems in the 1950s and 1960s.</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With the United States as its leader, NATO was formed in 1949 to counter the perceived military threat of the Soviet Union and its Eastern European satellites, which formally created the Warsaw Pact in 1955. Soviet and American troops, each backed by nuclear weapons, directly faced each other, heightening Cold War 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Which NATO countries shared a border with one or more Warsaw Pact countri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7240"/>
            <a:ext cx="4572000" cy="3429000"/>
          </a:xfrm>
          <a:prstGeom prst="rect">
            <a:avLst/>
          </a:prstGeom>
          <a:ln w="0">
            <a:noFill/>
          </a:ln>
        </p:spPr>
      </p:sp>
      <p:sp>
        <p:nvSpPr>
          <p:cNvPr id="128"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Korean Wa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7240"/>
            <a:ext cx="4572000" cy="3429000"/>
          </a:xfrm>
          <a:prstGeom prst="rect">
            <a:avLst/>
          </a:prstGeom>
          <a:ln w="0">
            <a:noFill/>
          </a:ln>
        </p:spPr>
      </p:sp>
      <p:sp>
        <p:nvSpPr>
          <p:cNvPr id="130"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Algerian Independence.</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Although the French wanted to retain control of their Algerian colony, a bloody war of liberation finally led to Algeria’s freedom. This photograph shows a group of Algerians celebrating the announcement of independence on July 3, 1962.</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7240"/>
            <a:ext cx="4572000" cy="3429000"/>
          </a:xfrm>
          <a:prstGeom prst="rect">
            <a:avLst/>
          </a:prstGeom>
          <a:ln w="0">
            <a:noFill/>
          </a:ln>
        </p:spPr>
      </p:sp>
      <p:sp>
        <p:nvSpPr>
          <p:cNvPr id="132"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Map 28.2: Decolonization in Africa.</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By the late 1950s, Britain and France had decided to allow independence for most of their African colonies, although France fought hard before relinquishing Algeria. Most of the new states had difficulty promoting economic growth and dealing with internal ethnic animos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Of the countries that gained independence from 1975 onward, what is a significant characteristic shared by a majority of th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45FDF-A7E6-42CB-A06D-6742561FB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497F3-129A-40E2-8CA6-4530547FF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0DD2F-F001-4D80-BE2A-E2CF53307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7FCCA-5DE5-4644-98E3-0CA884BEE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E37D4-DBAB-41C0-A26F-09E7F9200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DEAA5-5EA8-4A59-8ED6-747DCF15B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0960F-8B8B-4147-A168-1B7FC1FBF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9DD5B-0890-450F-84E1-30C12625C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DCF09-B3C5-4CFF-AD2A-2FD9D82CE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A8431-EAF9-4370-828E-3F9B83AC3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79238-4383-4088-9B23-282D54A62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D283E-26AD-4AE3-8553-E16BA06B8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2D73F-C92E-4FF1-9A18-9B192ACCF1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1" descr=""/>
          <p:cNvPicPr/>
          <p:nvPr/>
        </p:nvPicPr>
        <p:blipFill>
          <a:blip r:embed="rId1"/>
          <a:stretch/>
        </p:blipFill>
        <p:spPr>
          <a:xfrm>
            <a:off x="855720" y="165240"/>
            <a:ext cx="7431120" cy="650376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
          <p:cNvSpPr/>
          <p:nvPr/>
        </p:nvSpPr>
        <p:spPr>
          <a:xfrm>
            <a:off x="7494480" y="6562800"/>
            <a:ext cx="164952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Fig. 28-CO, p. 87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1" descr=""/>
          <p:cNvPicPr/>
          <p:nvPr/>
        </p:nvPicPr>
        <p:blipFill>
          <a:blip r:embed="rId1"/>
          <a:stretch/>
        </p:blipFill>
        <p:spPr>
          <a:xfrm>
            <a:off x="1714680" y="76320"/>
            <a:ext cx="5715000" cy="670536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7623000" y="6562800"/>
            <a:ext cx="152100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Map 28-3, p. 88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1" descr=""/>
          <p:cNvPicPr/>
          <p:nvPr/>
        </p:nvPicPr>
        <p:blipFill>
          <a:blip r:embed="rId1"/>
          <a:stretch/>
        </p:blipFill>
        <p:spPr>
          <a:xfrm>
            <a:off x="596880" y="76320"/>
            <a:ext cx="7950240" cy="670536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p:nvPr/>
        </p:nvSpPr>
        <p:spPr>
          <a:xfrm>
            <a:off x="7623000" y="6562800"/>
            <a:ext cx="152100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Map 28-4, p. 88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1" descr=""/>
          <p:cNvPicPr/>
          <p:nvPr/>
        </p:nvPicPr>
        <p:blipFill>
          <a:blip r:embed="rId1"/>
          <a:stretch/>
        </p:blipFill>
        <p:spPr>
          <a:xfrm>
            <a:off x="582480" y="74520"/>
            <a:ext cx="7977240" cy="670716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9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1" descr=""/>
          <p:cNvPicPr/>
          <p:nvPr/>
        </p:nvPicPr>
        <p:blipFill>
          <a:blip r:embed="rId1"/>
          <a:stretch/>
        </p:blipFill>
        <p:spPr>
          <a:xfrm>
            <a:off x="262080" y="76320"/>
            <a:ext cx="8619840" cy="67053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9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1" descr=""/>
          <p:cNvPicPr/>
          <p:nvPr/>
        </p:nvPicPr>
        <p:blipFill>
          <a:blip r:embed="rId1"/>
          <a:stretch/>
        </p:blipFill>
        <p:spPr>
          <a:xfrm>
            <a:off x="2200320" y="76320"/>
            <a:ext cx="4741920" cy="6705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1" descr=""/>
          <p:cNvPicPr/>
          <p:nvPr/>
        </p:nvPicPr>
        <p:blipFill>
          <a:blip r:embed="rId1"/>
          <a:stretch/>
        </p:blipFill>
        <p:spPr>
          <a:xfrm>
            <a:off x="982800" y="76320"/>
            <a:ext cx="7178400" cy="670536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9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1" descr=""/>
          <p:cNvPicPr/>
          <p:nvPr/>
        </p:nvPicPr>
        <p:blipFill>
          <a:blip r:embed="rId1"/>
          <a:stretch/>
        </p:blipFill>
        <p:spPr>
          <a:xfrm>
            <a:off x="1468440" y="76320"/>
            <a:ext cx="6205680" cy="670536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1" descr=""/>
          <p:cNvPicPr/>
          <p:nvPr/>
        </p:nvPicPr>
        <p:blipFill>
          <a:blip r:embed="rId1"/>
          <a:stretch/>
        </p:blipFill>
        <p:spPr>
          <a:xfrm>
            <a:off x="1936800" y="76320"/>
            <a:ext cx="5268960" cy="670536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1" descr=""/>
          <p:cNvPicPr/>
          <p:nvPr/>
        </p:nvPicPr>
        <p:blipFill>
          <a:blip r:embed="rId1"/>
          <a:stretch/>
        </p:blipFill>
        <p:spPr>
          <a:xfrm>
            <a:off x="235080" y="165240"/>
            <a:ext cx="8672400" cy="650376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9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1" descr=""/>
          <p:cNvPicPr/>
          <p:nvPr/>
        </p:nvPicPr>
        <p:blipFill>
          <a:blip r:embed="rId1"/>
          <a:stretch/>
        </p:blipFill>
        <p:spPr>
          <a:xfrm>
            <a:off x="1876320" y="76320"/>
            <a:ext cx="5391360" cy="670536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1" descr=""/>
          <p:cNvPicPr/>
          <p:nvPr/>
        </p:nvPicPr>
        <p:blipFill>
          <a:blip r:embed="rId1"/>
          <a:stretch/>
        </p:blipFill>
        <p:spPr>
          <a:xfrm>
            <a:off x="88920" y="272880"/>
            <a:ext cx="8964720" cy="631224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7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1" descr=""/>
          <p:cNvPicPr/>
          <p:nvPr/>
        </p:nvPicPr>
        <p:blipFill>
          <a:blip r:embed="rId1"/>
          <a:stretch/>
        </p:blipFill>
        <p:spPr>
          <a:xfrm>
            <a:off x="2104920" y="76320"/>
            <a:ext cx="4934160" cy="670536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0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1" descr=""/>
          <p:cNvPicPr/>
          <p:nvPr/>
        </p:nvPicPr>
        <p:blipFill>
          <a:blip r:embed="rId1"/>
          <a:stretch/>
        </p:blipFill>
        <p:spPr>
          <a:xfrm>
            <a:off x="2428920" y="76320"/>
            <a:ext cx="4286160" cy="670536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1" descr=""/>
          <p:cNvPicPr/>
          <p:nvPr/>
        </p:nvPicPr>
        <p:blipFill>
          <a:blip r:embed="rId1"/>
          <a:stretch/>
        </p:blipFill>
        <p:spPr>
          <a:xfrm>
            <a:off x="1012680" y="76320"/>
            <a:ext cx="7116840" cy="670536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1" descr=""/>
          <p:cNvPicPr/>
          <p:nvPr/>
        </p:nvPicPr>
        <p:blipFill>
          <a:blip r:embed="rId1"/>
          <a:stretch/>
        </p:blipFill>
        <p:spPr>
          <a:xfrm>
            <a:off x="88920" y="766800"/>
            <a:ext cx="8964720" cy="53244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
          <p:cNvSpPr/>
          <p:nvPr/>
        </p:nvSpPr>
        <p:spPr>
          <a:xfrm>
            <a:off x="7661160" y="6562800"/>
            <a:ext cx="148284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Timeline, p. 9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1" descr=""/>
          <p:cNvPicPr/>
          <p:nvPr/>
        </p:nvPicPr>
        <p:blipFill>
          <a:blip r:embed="rId1"/>
          <a:stretch/>
        </p:blipFill>
        <p:spPr>
          <a:xfrm>
            <a:off x="1612800" y="76320"/>
            <a:ext cx="5916600" cy="670392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8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1" descr=""/>
          <p:cNvPicPr/>
          <p:nvPr/>
        </p:nvPicPr>
        <p:blipFill>
          <a:blip r:embed="rId1"/>
          <a:stretch/>
        </p:blipFill>
        <p:spPr>
          <a:xfrm>
            <a:off x="88920" y="246240"/>
            <a:ext cx="8964720" cy="636408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8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1" descr=""/>
          <p:cNvPicPr/>
          <p:nvPr/>
        </p:nvPicPr>
        <p:blipFill>
          <a:blip r:embed="rId1"/>
          <a:stretch/>
        </p:blipFill>
        <p:spPr>
          <a:xfrm>
            <a:off x="903240" y="76320"/>
            <a:ext cx="7337520" cy="670536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7623000" y="6562800"/>
            <a:ext cx="152100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Map 28-1, p. 88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1" descr=""/>
          <p:cNvPicPr/>
          <p:nvPr/>
        </p:nvPicPr>
        <p:blipFill>
          <a:blip r:embed="rId1"/>
          <a:stretch/>
        </p:blipFill>
        <p:spPr>
          <a:xfrm>
            <a:off x="2120760" y="76320"/>
            <a:ext cx="4900680" cy="670536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8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1" descr=""/>
          <p:cNvPicPr/>
          <p:nvPr/>
        </p:nvPicPr>
        <p:blipFill>
          <a:blip r:embed="rId1"/>
          <a:stretch/>
        </p:blipFill>
        <p:spPr>
          <a:xfrm>
            <a:off x="1657440" y="76320"/>
            <a:ext cx="5829120" cy="670536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8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1" descr=""/>
          <p:cNvPicPr/>
          <p:nvPr/>
        </p:nvPicPr>
        <p:blipFill>
          <a:blip r:embed="rId1"/>
          <a:stretch/>
        </p:blipFill>
        <p:spPr>
          <a:xfrm>
            <a:off x="2471760" y="76320"/>
            <a:ext cx="4199040" cy="670536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8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1" descr=""/>
          <p:cNvPicPr/>
          <p:nvPr/>
        </p:nvPicPr>
        <p:blipFill>
          <a:blip r:embed="rId1"/>
          <a:stretch/>
        </p:blipFill>
        <p:spPr>
          <a:xfrm>
            <a:off x="2011320" y="76320"/>
            <a:ext cx="5119560" cy="670536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7623000" y="6562800"/>
            <a:ext cx="152100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Map 28-2, p. 88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07:53:42Z</dcterms:created>
  <dc:creator>Andrew Levine</dc:creator>
  <dc:description/>
  <dc:language>en-US</dc:language>
  <cp:lastModifiedBy>Darien Public Schools</cp:lastModifiedBy>
  <dcterms:modified xsi:type="dcterms:W3CDTF">2008-12-08T15:07:25Z</dcterms:modified>
  <cp:revision>4</cp:revision>
  <dc:subject/>
  <dc:title>Slide 1</dc:title>
</cp:coreProperties>
</file>